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0D7-0031-45B5-AC13-8A3CCC13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D37-8851-41C9-9E7D-4BFACBB7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1F0-E444-4293-BB0C-BFBB7BC7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101-7558-457A-A404-B9288EC9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51DB-AD51-4B3B-B70E-CAA4BA40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9069-A6FB-478A-8230-D81D595A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428B-98AB-4C82-B17A-1EC9394B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77BA-32FA-4AB9-8D92-F2ED564E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E164-0828-400D-9307-8EB69ACA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252B-B6E9-4EC4-9F21-1BC35B21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D79B-8ABD-448C-A771-1B211BB6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79F-D3DB-477D-9288-247B1D4F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782A-A018-4949-A868-E391DCA9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8FCD-78A0-4392-B288-A53E492C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B5D5-AE73-4699-A382-BA0B2AA7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FFC2-241D-400D-9D80-6A619F85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619C-DE47-4E11-AAE5-9A3F239D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03C-5DF6-4B38-822E-6A8FCFF4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859-70C5-4218-935B-84537977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0F0-56DF-4E7A-9C04-335DD775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AA8-B7B9-45F4-B69E-9CB7B40E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D51-CF2D-4CD9-AA84-56297261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0B5-D918-4B82-B5DC-9BBD30B2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D7E-F155-42E8-90A4-47B1B860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02BB-8386-4DAE-A4FF-65BBA78A2DC9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7E47-B3A7-4AFE-8DF1-CFBD549F9D34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ambulatoriocronicita@aslcn2.it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PERCORSI CRONICITA’ : AGGIOR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2160" y="426708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0066"/>
                </a:solidFill>
                <a:latin typeface="Arial"/>
              </a:rPr>
              <a:t>A. Gianti, Distrett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8520" y="1447920"/>
            <a:ext cx="425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9999"/>
                </a:solidFill>
                <a:latin typeface="Arial"/>
              </a:rPr>
              <a:t>Ospedale M.P. Ferrero, VERDUNO, 4 Giugno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1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669999"/>
                </a:solidFill>
                <a:latin typeface="Arial"/>
              </a:rPr>
              <a:t>ASLCN2                                RIUNIONE CONGIUNTA  DI EQUI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zi attivi nelle CDC HUB (Alba e B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mbulatorio Cronicità (+geriatra di distrett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mbulatorio Scompenso Cardia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mbulatorio Pneumolo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mbulatorio Infermieristico di Medicina di Inizi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mbulatorio CDCD (Centro Diagnosi e Cura Demenz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mbulatorio Nefrologia (</a:t>
            </a:r>
            <a:r>
              <a:rPr b="0" i="1" lang="it-IT" sz="3000" spc="-1" strike="noStrike">
                <a:solidFill>
                  <a:srgbClr val="000000"/>
                </a:solidFill>
                <a:latin typeface="Arial"/>
              </a:rPr>
              <a:t>solo CDC Alba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U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0066"/>
                </a:solidFill>
                <a:latin typeface="Arial"/>
              </a:rPr>
              <a:t>AMBULATORIO CRONICITA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Email:  </a:t>
            </a:r>
            <a:r>
              <a:rPr b="0" lang="it-IT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ambulatoriocronicita@aslcn2.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Referente dr.ssa Gianti: 331 6802880 </a:t>
            </a: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ff3300"/>
                </a:solidFill>
                <a:latin typeface="Arial"/>
              </a:rPr>
              <a:t>    (interno 189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o CUP, No Accesso Dirett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543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900" spc="-1" strike="noStrike">
                <a:solidFill>
                  <a:srgbClr val="330066"/>
                </a:solidFill>
                <a:latin typeface="Arial"/>
              </a:rPr>
              <a:t>Attivita’ ambulatorio cronicità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a in carico de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ziente cronic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mbulatoriale e/o domicil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AGNOSTICA AMBULATORIALE E A DOMICI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ossibilità di esecuzione 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prelievi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facilitati per esami ematici, incluso 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Terapie di supporto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se il pz ha necessità o non riesce in autonomia (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ferro ev, folina ev,  dobetin im, LMWH sc, epo s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Terapie indicate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dal medico specialista inviante: (es.Alendronato, Corticosteroidi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Vaccinazioni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(Covid, Flu, HZV ,Pneumo, su soggetti ≥18 a R, e secondo le coorti di nascita indic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tribuzione diretta farmaci in accordo con farmacia per contenimento spesa (E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sistenza/segnalazione rinnovi PT (es Ossigenoterap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duzione DEMA per visite/esami con contatto diretto per prenotazione in PSDTA o altri percorsi aziend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atto con Servizi Soc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201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UC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UNITA’ DI CONTINUITA’ ASSISTENZIALE (UC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DM 77/2022</a:t>
            </a:r>
            <a:r>
              <a:rPr b="1" lang="it-IT" sz="1500" spc="-1" strike="noStrike">
                <a:solidFill>
                  <a:srgbClr val="0000ff"/>
                </a:solidFill>
                <a:latin typeface="Arial"/>
              </a:rPr>
              <a:t>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Un’équipe mobile distrettuale per la gestione e il supporto della presa in carico di individui, o di comunità, che versano in condizioni clinico-assistenziali di particolare complessità e che comportano una comprovata difficoltà operativ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Standard: 1 medico e 1 infermier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ogni 100.000 abitanti, che operano sul territorio di riferimento anche attraverso l’utilizzo di strumenti di telemedicina (es. televisita e teleassistenza) e in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collaborazione con MMG e PL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lle AFT/UCCP. Al fine di svolgere la propria attività l’UCA può usufruire del supporto a distanza (teleconsulto) di specialisti del territorio ed ospedalie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L’UCA non sostituisce ma support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per un tempo defini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 professionisti responsabili della presa in carico del paziente e della comunità. Essa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può essere attivata in presenza di condizioni clinico assistenziali di particolare complessit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’UCA deve essere dotata di un sistema integrato comprendente una moderna infrastruttura di telemedicina </a:t>
            </a: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collegata alle CO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d accessibile via internet al fine di garantire anche in teleconsulto interoperabilità della rete di consulenti collegati; deve essere dotata inoltre di strumentazione avanzata di primo livello e di una gamma completa di dispositivi medici portatili (anche diagnostici) in grado di acquisire informazioni e parametri necessari al monitoraggio delle condizioni cliniche del paz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La sede operativa dell’UCA è la Casa della Comunità </a:t>
            </a:r>
            <a:r>
              <a:rPr b="0" i="1" lang="it-IT" sz="1600" spc="-1" strike="noStrike">
                <a:solidFill>
                  <a:srgbClr val="0000ff"/>
                </a:solidFill>
                <a:latin typeface="Arial"/>
              </a:rPr>
              <a:t>hub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la quale afferisce anche dal punto di vista organizza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UCA- ASLCN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Dal 1° MAGGIO 2024: UNITA’ DI CONTINUITA’ ASSISTENZIALE (U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NB: Fase Iniziale: Fascia Oraria 16-20.00 FER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324480" cy="4033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630480" y="6172200"/>
            <a:ext cx="191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ff"/>
                </a:solidFill>
                <a:latin typeface="Arial"/>
              </a:rPr>
              <a:t>Copyright Dalmasso/Gon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15T13:51:42Z</dcterms:created>
  <dc:creator>Gianti Dott.ssa Annamaria</dc:creator>
  <dc:description/>
  <dc:language>en-US</dc:language>
  <cp:lastModifiedBy>agianti</cp:lastModifiedBy>
  <dcterms:modified xsi:type="dcterms:W3CDTF">2024-05-16T10:30:2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